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C85-8C66-4AE9-8D42-7D633287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4FA-AE80-487A-8116-8828184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B08-F04A-44E3-9973-044183A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3BC-1F8D-44A3-AB48-CB6CF6E1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567-013D-4113-9EE6-BA32A765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B3-8A13-4006-A180-912B2CB5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1B1-CA03-4148-B203-DC93FA6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D42-7E21-4C53-A922-FF29E2D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99D-A0BE-42C9-83A4-B0E8843C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3FC-762B-4745-8029-BB5172D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5B6-DCF8-49B1-9F46-E9871E8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5AA-EE7E-431E-9846-25D3191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045-1A16-428E-9973-576DA93D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 viaje de Ul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9636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595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Las Si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39360" cy="526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36572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Pies de ave y cuerpo de 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us cantos atraen a los naveg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Escila i Carib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537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ligros del est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Vacas sagradas de He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61657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65920" cy="52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4005360"/>
            <a:ext cx="216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acrifican vacas para 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Helios les impone un cast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Calip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499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413000"/>
            <a:ext cx="2160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Ninfa enamora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Lo retiene con ella 7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Isla del los fea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559640" cy="3749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3640" y="530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Encuentra a Nausi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b155"/>
                </a:solidFill>
                <a:latin typeface="Comic Sans MS"/>
              </a:rPr>
              <a:t>Ít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12160" cy="472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d1b155"/>
                </a:solidFill>
                <a:latin typeface="Comic Sans MS"/>
              </a:rPr>
              <a:t>Llegada a Ítaca y reencuentro con Penélope</a:t>
            </a: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ro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88360" cy="503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916280"/>
            <a:ext cx="5003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b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ffffcb"/>
                </a:solidFill>
                <a:latin typeface="Comic Sans MS"/>
              </a:rPr>
              <a:t>Parti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atalla contra los ci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877000" cy="50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92360" y="580536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El viento desvia a Ulises hasta el país de los ci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Lotófa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416720" cy="556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98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Flor del l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Les hace olvidar el vi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íc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igantes de un solo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99736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Encierra a Ulises i a los suyos en una cu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4724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clavan una est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4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E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4076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Comic Sans MS"/>
              </a:rPr>
              <a:t>-Indica la ruta a Ulises i los g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01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-Les da un saco de v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Lestrig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08920" cy="53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1341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-Atacan las naves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Maga Ci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70840" cy="50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3200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onversión en ce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73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-Ulises los res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El 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0560" y="5661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550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11640" y="5516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5:43:23Z</dcterms:created>
  <dc:creator>ANDREA</dc:creator>
  <dc:description/>
  <dc:language>en-US</dc:language>
  <cp:lastModifiedBy>ANDREA</cp:lastModifiedBy>
  <dcterms:modified xsi:type="dcterms:W3CDTF">2010-11-07T09:26:45Z</dcterms:modified>
  <cp:revision>57</cp:revision>
  <dc:subject/>
  <dc:title>Las hazañas de Ulises</dc:title>
</cp:coreProperties>
</file>